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2B56-88AE-4CE7-8323-B3A8A2311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5A3-8069-45CE-9227-AB873B50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8672D-15EE-495B-A811-763C35942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532-0A86-479C-8DB1-39136D8E4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34EB-DDEB-4431-A4F1-51C550A1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72643-0628-409A-A1DB-C06C16D6E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66F9-0875-4D6E-AB71-13FE17333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B52AB-A44A-4268-A39E-BCDC06402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AE9-E1CC-4C53-87C7-D4FAFA84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A83A1-E8F6-4D83-BE7B-F80F33E0A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1BB7-1DCF-4E70-946C-5125BD3F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30C7-AB17-4C63-A717-76C9C6D27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88C35-10DA-4899-A42E-209BCF90A9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Growth &amp;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divided into 4 pha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6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1" dur="5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6" dur="5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1" dur="5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6" dur="5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" dur="5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23184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and longest pha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separate and move to opposite sides of the nucle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ioles help to organize the spindle fi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atin condenses into chromoso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ar envelope breaks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2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8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90920" y="231840"/>
            <a:ext cx="6248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romosomes line up across the middle of the cell (at the equator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ch chromosome is connected to the spindle fiber by the centrom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ister chromatids separate into individual chromosomes and are moved apart to opposite po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romosomes begin to untang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nuclear envelopes will 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indle begins to break dow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cleolus becomes vi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7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36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90920" y="231840"/>
            <a:ext cx="63244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074600" y="1157400"/>
            <a:ext cx="3348000" cy="2271600"/>
          </a:xfrm>
          <a:custGeom>
            <a:avLst/>
            <a:gdLst/>
            <a:ahLst/>
            <a:rect l="l" t="t" r="r" b="b"/>
            <a:pathLst>
              <a:path w="2109" h="1431">
                <a:moveTo>
                  <a:pt x="2032" y="1388"/>
                </a:moveTo>
                <a:lnTo>
                  <a:pt x="2109" y="0"/>
                </a:lnTo>
                <a:lnTo>
                  <a:pt x="0" y="351"/>
                </a:lnTo>
                <a:lnTo>
                  <a:pt x="1003" y="1431"/>
                </a:lnTo>
                <a:lnTo>
                  <a:pt x="2032" y="13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mits to Cel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NA “Overload”: if a cell gets to big, DNA cannot serve the increasing needs of the growing c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changing Material: If a cell gets to big, food, oxygen, water, cannot get in quick enough and wastes cannot get out quick enoug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 of Surface Area to Volume: Volume increases much more rapidly than surface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ytoplasm pinches in half. Each daughter cell has an identical set of duplicate chromosom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plants the cells do not separate but form a cell plate between the 2 nuclei and the cell wall starts to fo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ults of Cell Divi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daughter cells with same number of chromosomes as the original (parent) ce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. 24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→ 2 cells each with 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of our body cells go through mito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osis is used for growth and development, healing, &amp; when cells die from old ag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8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8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561960" y="1776240"/>
            <a:ext cx="8020080" cy="3305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35120" y="267804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ll Si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733920"/>
            <a:ext cx="1600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urface Area (length x width x 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420516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olum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length x width x heigh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4648320"/>
            <a:ext cx="182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tio of Surface Area to Volu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231840"/>
            <a:ext cx="8204040" cy="83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atio of Surface Area to Volu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romosom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ain the genetic information (DN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not visible except during cell divis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umans have 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uit flies have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rrots have 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4952880" y="1981080"/>
            <a:ext cx="3581640" cy="3276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 flipV="1">
            <a:off x="6629400" y="49528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6629400" y="4419360"/>
            <a:ext cx="1371600" cy="1447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540120" y="5602320"/>
            <a:ext cx="260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r Chromat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105520" y="3809520"/>
            <a:ext cx="1295280" cy="167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87280" y="5373720"/>
            <a:ext cx="178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9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5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6" dur="20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213000" y="1419120"/>
            <a:ext cx="1828800" cy="72396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127400" y="2143080"/>
            <a:ext cx="0" cy="165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556080" y="230652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clu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946160" y="3765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62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890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18924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9040" y="4572000"/>
            <a:ext cx="2514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514840" y="40561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s divided i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15120" y="3736800"/>
            <a:ext cx="0" cy="33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441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692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3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194680" y="45720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41680" y="4572000"/>
            <a:ext cx="374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315120" y="4343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94004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ept Ma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7400" y="2562120"/>
            <a:ext cx="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943280" y="2752560"/>
            <a:ext cx="438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616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315120" y="27525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36760" y="1428840"/>
            <a:ext cx="1828800" cy="723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3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414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360440" y="3089160"/>
            <a:ext cx="121932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29400" y="3089160"/>
            <a:ext cx="1218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665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164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18004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402240" y="4869000"/>
            <a:ext cx="109728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69080" y="4869000"/>
            <a:ext cx="1096920" cy="4572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442880" y="3187800"/>
            <a:ext cx="5415120" cy="459000"/>
            <a:chOff x="1442880" y="3187800"/>
            <a:chExt cx="5415120" cy="459000"/>
          </a:xfrm>
        </p:grpSpPr>
        <p:sp>
          <p:nvSpPr>
            <p:cNvPr id="93" name=""/>
            <p:cNvSpPr/>
            <p:nvPr/>
          </p:nvSpPr>
          <p:spPr>
            <a:xfrm>
              <a:off x="5838840" y="3187800"/>
              <a:ext cx="101916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 phas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Mitosi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442880" y="3262320"/>
              <a:ext cx="1070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ter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85840" y="4957920"/>
            <a:ext cx="8416800" cy="301320"/>
            <a:chOff x="285840" y="4957920"/>
            <a:chExt cx="8416800" cy="301320"/>
          </a:xfrm>
        </p:grpSpPr>
        <p:sp>
          <p:nvSpPr>
            <p:cNvPr id="96" name=""/>
            <p:cNvSpPr/>
            <p:nvPr/>
          </p:nvSpPr>
          <p:spPr>
            <a:xfrm>
              <a:off x="285840" y="4957920"/>
              <a:ext cx="860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53360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038480" y="4957920"/>
              <a:ext cx="860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27360" y="4957920"/>
              <a:ext cx="995400" cy="3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Arial"/>
                </a:rPr>
                <a:t>2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216400" y="4957920"/>
              <a:ext cx="1046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t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43960" y="4957920"/>
              <a:ext cx="958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lo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488280" y="4957920"/>
              <a:ext cx="909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aph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305080" y="1371600"/>
            <a:ext cx="4533840" cy="436716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28720" y="324468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4572000"/>
            <a:ext cx="10666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562720" y="37339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62520" y="2278080"/>
            <a:ext cx="16002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1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ph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90920" y="231840"/>
            <a:ext cx="5105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ell Cy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phase: the “in-between” period of growth; longest &amp; busiest phase of the cell cyc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ring the cell cycle, a cell grows, prepares for division, and divides into 2 daughter cells, then each begin the cycle ag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-54000" y="1262160"/>
            <a:ext cx="9269280" cy="477504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503360" y="1806480"/>
            <a:ext cx="160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09920" y="254808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at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738520" y="297504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ter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89080" y="2600280"/>
            <a:ext cx="1203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184480" y="3546360"/>
            <a:ext cx="184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ytokine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46040" y="4627440"/>
            <a:ext cx="1283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clear envelope re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035160" y="4065480"/>
            <a:ext cx="18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l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932280" y="451944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68960" y="4048200"/>
            <a:ext cx="16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vidual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259680" y="3922560"/>
            <a:ext cx="144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ta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897520" y="3587760"/>
            <a:ext cx="112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864400" y="321804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050240" y="2552760"/>
            <a:ext cx="1122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i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281560" y="2692440"/>
            <a:ext cx="168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omosomes (paired chromatid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622760" y="3075120"/>
            <a:ext cx="144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448160" y="25322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om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433760" y="1442880"/>
            <a:ext cx="1041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indle fo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90920" y="231840"/>
            <a:ext cx="65530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tosis and Cytokines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300560" y="1143000"/>
            <a:ext cx="2789280" cy="2381400"/>
          </a:xfrm>
          <a:custGeom>
            <a:avLst/>
            <a:gdLst/>
            <a:ahLst/>
            <a:rect l="l" t="t" r="r" b="b"/>
            <a:pathLst>
              <a:path w="1757" h="1500">
                <a:moveTo>
                  <a:pt x="0" y="1406"/>
                </a:moveTo>
                <a:lnTo>
                  <a:pt x="77" y="0"/>
                </a:lnTo>
                <a:lnTo>
                  <a:pt x="1757" y="197"/>
                </a:lnTo>
                <a:lnTo>
                  <a:pt x="1568" y="1320"/>
                </a:lnTo>
                <a:lnTo>
                  <a:pt x="968" y="1311"/>
                </a:lnTo>
                <a:lnTo>
                  <a:pt x="960" y="1491"/>
                </a:lnTo>
                <a:lnTo>
                  <a:pt x="42" y="1500"/>
                </a:lnTo>
                <a:lnTo>
                  <a:pt x="0" y="14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37400" y="1455840"/>
            <a:ext cx="2966760" cy="3497040"/>
          </a:xfrm>
          <a:custGeom>
            <a:avLst/>
            <a:gdLst/>
            <a:ahLst/>
            <a:rect l="l" t="t" r="r" b="b"/>
            <a:pathLst>
              <a:path w="1869" h="2203">
                <a:moveTo>
                  <a:pt x="0" y="1294"/>
                </a:moveTo>
                <a:lnTo>
                  <a:pt x="9" y="1123"/>
                </a:lnTo>
                <a:lnTo>
                  <a:pt x="617" y="1132"/>
                </a:lnTo>
                <a:lnTo>
                  <a:pt x="780" y="0"/>
                </a:lnTo>
                <a:lnTo>
                  <a:pt x="1869" y="874"/>
                </a:lnTo>
                <a:lnTo>
                  <a:pt x="892" y="2203"/>
                </a:lnTo>
                <a:lnTo>
                  <a:pt x="463" y="2057"/>
                </a:lnTo>
                <a:lnTo>
                  <a:pt x="0" y="129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646440" y="3524400"/>
            <a:ext cx="2967120" cy="2149200"/>
          </a:xfrm>
          <a:custGeom>
            <a:avLst/>
            <a:gdLst/>
            <a:ahLst/>
            <a:rect l="l" t="t" r="r" b="b"/>
            <a:pathLst>
              <a:path w="1869" h="1354">
                <a:moveTo>
                  <a:pt x="652" y="9"/>
                </a:moveTo>
                <a:lnTo>
                  <a:pt x="1380" y="0"/>
                </a:lnTo>
                <a:lnTo>
                  <a:pt x="1869" y="780"/>
                </a:lnTo>
                <a:lnTo>
                  <a:pt x="1063" y="1354"/>
                </a:lnTo>
                <a:lnTo>
                  <a:pt x="0" y="1234"/>
                </a:lnTo>
                <a:lnTo>
                  <a:pt x="103" y="634"/>
                </a:lnTo>
                <a:lnTo>
                  <a:pt x="626" y="600"/>
                </a:lnTo>
                <a:lnTo>
                  <a:pt x="652" y="9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98560" y="3878280"/>
            <a:ext cx="3782880" cy="1604880"/>
          </a:xfrm>
          <a:custGeom>
            <a:avLst/>
            <a:gdLst/>
            <a:ahLst/>
            <a:rect l="l" t="t" r="r" b="b"/>
            <a:pathLst>
              <a:path w="2383" h="1011">
                <a:moveTo>
                  <a:pt x="2383" y="0"/>
                </a:moveTo>
                <a:lnTo>
                  <a:pt x="2357" y="377"/>
                </a:lnTo>
                <a:lnTo>
                  <a:pt x="1843" y="420"/>
                </a:lnTo>
                <a:lnTo>
                  <a:pt x="1740" y="1011"/>
                </a:lnTo>
                <a:lnTo>
                  <a:pt x="0" y="994"/>
                </a:lnTo>
                <a:lnTo>
                  <a:pt x="68" y="523"/>
                </a:lnTo>
                <a:lnTo>
                  <a:pt x="1474" y="77"/>
                </a:lnTo>
                <a:lnTo>
                  <a:pt x="2383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81120" y="2244600"/>
            <a:ext cx="4000320" cy="2463840"/>
          </a:xfrm>
          <a:custGeom>
            <a:avLst/>
            <a:gdLst/>
            <a:ahLst/>
            <a:rect l="l" t="t" r="r" b="b"/>
            <a:pathLst>
              <a:path w="2520" h="1552">
                <a:moveTo>
                  <a:pt x="214" y="1552"/>
                </a:moveTo>
                <a:lnTo>
                  <a:pt x="0" y="395"/>
                </a:lnTo>
                <a:lnTo>
                  <a:pt x="565" y="0"/>
                </a:lnTo>
                <a:lnTo>
                  <a:pt x="1260" y="755"/>
                </a:lnTo>
                <a:lnTo>
                  <a:pt x="2297" y="695"/>
                </a:lnTo>
                <a:lnTo>
                  <a:pt x="2322" y="797"/>
                </a:lnTo>
                <a:lnTo>
                  <a:pt x="2520" y="815"/>
                </a:lnTo>
                <a:lnTo>
                  <a:pt x="2511" y="1020"/>
                </a:lnTo>
                <a:lnTo>
                  <a:pt x="1628" y="1106"/>
                </a:lnTo>
                <a:lnTo>
                  <a:pt x="214" y="155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phase: Cell Grow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ells are growing, synthesizing proteins and organel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: chromosomes are replica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organelles and other molecules required for cell division are p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4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56:02Z</dcterms:created>
  <dc:creator>Perquimans County Schools</dc:creator>
  <dc:description/>
  <dc:language>en-US</dc:language>
  <cp:lastModifiedBy>Perquimans County Schools</cp:lastModifiedBy>
  <dcterms:modified xsi:type="dcterms:W3CDTF">2008-04-11T18:47:44Z</dcterms:modified>
  <cp:revision>6</cp:revision>
  <dc:subject/>
  <dc:title>Cell Growth &amp; Division</dc:title>
</cp:coreProperties>
</file>